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406-51D3-4B04-B595-C2D8EE83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0D9-BB34-4310-A56F-E3038EB4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C16-EF8D-4575-921D-1DF55505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B91-A87B-4DDE-B259-80BC99ED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39A-F67F-4209-95D3-E9A1D86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46DA-7509-4CDA-AF4E-6DBBA8AD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D16-FFD2-4201-90A1-6AC9C3F0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239-E03C-4188-BA7F-4C15702C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48B-6AF8-440A-84C4-EC95AE27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1413-2C8B-4645-B908-090710D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3FB-AF67-489F-9EB6-DB2DAD5A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D3FD-B62E-4C05-A428-FEC3298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15A1-C98F-4E9F-B784-16D52CD6A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 u="sng">
                <a:solidFill>
                  <a:srgbClr val="ffffff"/>
                </a:solidFill>
                <a:uFillTx/>
                <a:latin typeface="Verdana"/>
              </a:rPr>
              <a:t>DADA COLLAGE OR POSTER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GOAL: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Using images from popular culture, make a statement about our socie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adbusters_flag.bmp"/>
          <p:cNvPicPr/>
          <p:nvPr/>
        </p:nvPicPr>
        <p:blipFill>
          <a:blip r:embed="rId1"/>
          <a:stretch/>
        </p:blipFill>
        <p:spPr>
          <a:xfrm>
            <a:off x="1509840" y="1066680"/>
            <a:ext cx="6262560" cy="3436920"/>
          </a:xfrm>
          <a:prstGeom prst="rect">
            <a:avLst/>
          </a:prstGeom>
          <a:ln w="0">
            <a:noFill/>
          </a:ln>
        </p:spPr>
      </p:pic>
      <p:sp>
        <p:nvSpPr>
          <p:cNvPr id="44" name="Title 1"/>
          <p:cNvSpPr/>
          <p:nvPr/>
        </p:nvSpPr>
        <p:spPr>
          <a:xfrm>
            <a:off x="6553080" y="64771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HANIEL BOOMH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304920" y="44197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Dada artists wanted to attack and ridicule societ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ausmann_artcritic2.jpg"/>
          <p:cNvPicPr/>
          <p:nvPr/>
        </p:nvPicPr>
        <p:blipFill>
          <a:blip r:embed="rId1"/>
          <a:stretch/>
        </p:blipFill>
        <p:spPr>
          <a:xfrm>
            <a:off x="2571840" y="228600"/>
            <a:ext cx="3905280" cy="5035680"/>
          </a:xfrm>
          <a:prstGeom prst="rect">
            <a:avLst/>
          </a:prstGeom>
          <a:ln w="0">
            <a:noFill/>
          </a:ln>
        </p:spPr>
      </p:pic>
      <p:sp>
        <p:nvSpPr>
          <p:cNvPr id="47" name="Title 1"/>
          <p:cNvSpPr/>
          <p:nvPr/>
        </p:nvSpPr>
        <p:spPr>
          <a:xfrm>
            <a:off x="6477120" y="1066680"/>
            <a:ext cx="25905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is man was an art critic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-76320" y="1066680"/>
            <a:ext cx="25909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tice his eyes and mouth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228600" y="4038480"/>
            <a:ext cx="8686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Images are everywhere!  Use creativity and irony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absoluteaa_1"/>
          <p:cNvPicPr/>
          <p:nvPr/>
        </p:nvPicPr>
        <p:blipFill>
          <a:blip r:embed="rId1"/>
          <a:srcRect l="19565" t="0" r="22824" b="0"/>
          <a:stretch/>
        </p:blipFill>
        <p:spPr>
          <a:xfrm>
            <a:off x="2895480" y="419040"/>
            <a:ext cx="40388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bigmac.jpg"/>
          <p:cNvPicPr/>
          <p:nvPr/>
        </p:nvPicPr>
        <p:blipFill>
          <a:blip r:embed="rId1"/>
          <a:stretch/>
        </p:blipFill>
        <p:spPr>
          <a:xfrm>
            <a:off x="1390680" y="1457280"/>
            <a:ext cx="636264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23:50:54Z</dcterms:created>
  <dc:creator>profile</dc:creator>
  <dc:description/>
  <dc:language>en-US</dc:language>
  <cp:lastModifiedBy>profile</cp:lastModifiedBy>
  <dcterms:modified xsi:type="dcterms:W3CDTF">2010-08-11T00:12:02Z</dcterms:modified>
  <cp:revision>3</cp:revision>
  <dc:subject/>
  <dc:title>Slide 1</dc:title>
</cp:coreProperties>
</file>